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7077075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B400-97B2-423F-A243-063F20A7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EEF-8F65-498D-B717-9D6E16C5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178E-1CFD-4390-8B48-9AE4CA6D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3D16-4BEB-4586-A4A7-8D9EB88D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3ED5-C0D1-4397-A712-77CB7DFF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A062-F2CD-4822-83D1-C3237EA1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F8BD-C604-496C-AA18-DB4BC399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68C3-A7C8-4813-B45D-DF8C1F8D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0C77-477E-4ABF-B2A6-DE9FCA6E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BCDD-DD25-457F-8753-C1FBC48A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0839-4C3C-490C-B5AC-203FF9BD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9FF5-6B42-4C93-862F-11FD0905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E025-CBAE-4AB6-A1C6-9E9B178E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5181-18FF-47FF-A8F5-31709490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A55A-47D6-4F51-9DDA-F5DE64AB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BE42-A8F8-4F12-A7F6-584C8DF5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A393-AE89-40DA-80C7-3C97EC62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32FF6-2FB4-4116-9BE0-59E142CC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1D34A-CB88-4FDC-BA66-8B36BA33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CB009-BC2E-412A-88D3-5E0D522E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DA590-92BE-40E9-A503-384FDE47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0DDB8-A96F-4306-8FF3-321B5F20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7FA-B1C5-49B1-959C-F911D8EA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D65CF-F165-4986-AA60-498C41F7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2CE35-54AF-4EBA-99BE-BC492F98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A6D64-C6B5-4A9D-B4D3-FDAE42B1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B385-6D50-4DF3-AEED-F95AF101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04936-0329-4430-96B8-2FE3D4B4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6F61E-F6E5-4509-BBE4-BA611D1E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4BAC5-8971-4F57-9C16-4D5A4573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891BC-B388-4F41-B4FD-E4448D44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E2F9F-5713-48DF-A00A-F567A8B6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69E77-A6F1-45CD-A6FB-2AB7118F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45EB-7255-4A78-BC09-8E5A0EF2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A712E-CD62-429A-B55D-DCA8A7AF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CF707-517B-43A6-9EDF-CE982995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B15DD-3684-42A3-A4CF-6C99FD22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2E95B-F4F6-4EDB-9083-DD3AA51B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28F2F-7854-44BA-A4E5-BC2F72DC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D4E60-7965-453C-85E6-5C5CBD69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5E8C0-4F0C-4459-BB1A-26C2BE8A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21C4E-8112-45E8-B1FE-C28BFB5C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25384-BAF9-49C5-8807-267B4384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235B1-EF66-48A4-8136-1CE9DBA9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BC24-2FBC-4B59-9228-C45CB0C7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460F7-8D32-4B24-BFA5-557494C6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0796F-BBB8-4C5F-A339-9E2A6876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FF90D-E2B1-4A9C-97EA-D352D055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BF830-9BF0-435A-9DB5-360DB93F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2B3B4-4C08-4076-B4C4-19732181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40B10-65EE-42F3-BB8D-E415CF25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A4783-925A-47E7-A4E6-BCECA3D9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8D768-C9F8-43C6-AB90-2061FCDA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AD66E-80EE-4B55-BA6D-6AD418B3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35FE6-1449-4847-B3D7-B8DDBE9D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4A2-9C0A-469C-B6B0-7AE07582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0CCB6-6760-4708-BDD7-055AA014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697-DF98-47E6-BC15-CDF220AF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A8C-25C6-4591-BF90-00B066F4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AD0C-CBB5-4095-9E75-B7CA15F5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7637-13A4-4F61-B0E7-CB0372EC392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061C-CEA9-4B23-B05E-0D2253EA048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F57C-F6A5-4661-8CC9-8F856F2D11F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674A-7ACF-4386-B6DD-391C630D751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8DA5-E3DE-448A-A4AE-F26AC683E7A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igo.com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cribd.com/doc/111778965/Web-2-0-Annotation-and-Bookmarking-Tools-A-Quick-Guide" TargetMode="Externa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8d3e"/>
                </a:solidFill>
                <a:latin typeface="Verdana"/>
              </a:rPr>
              <a:t>Diigo</a:t>
            </a:r>
            <a:br>
              <a:rPr sz="4100"/>
            </a:br>
            <a:r>
              <a:rPr b="1" lang="en-US" sz="41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diigo.com</a:t>
            </a:r>
            <a:br>
              <a:rPr sz="4100"/>
            </a:b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 Bookmarking Tool that .does so much mo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r. Carole Redline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2013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77616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Notice all the options in the pull down menu . My Library is import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77840" y="380880"/>
            <a:ext cx="850896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My Groups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5c00"/>
                </a:solidFill>
                <a:latin typeface="Verdana"/>
              </a:rPr>
              <a:t>Login and go to my groups. This example is just one wa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510552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/>
          <p:cNvSpPr/>
          <p:nvPr/>
        </p:nvSpPr>
        <p:spPr>
          <a:xfrm>
            <a:off x="4800600" y="34290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with all new progra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 pull down men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 you can see the groups I have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Straight Arrow Connector 6"/>
          <p:cNvCxnSpPr/>
          <p:nvPr/>
        </p:nvCxnSpPr>
        <p:spPr>
          <a:xfrm flipH="1" flipV="1">
            <a:off x="2971440" y="2133000"/>
            <a:ext cx="2057760" cy="1600920"/>
          </a:xfrm>
          <a:prstGeom prst="straightConnector1">
            <a:avLst/>
          </a:prstGeom>
          <a:ln w="57240">
            <a:solidFill>
              <a:srgbClr val="ff8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++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Oval 4"/>
          <p:cNvSpPr/>
          <p:nvPr/>
        </p:nvSpPr>
        <p:spPr>
          <a:xfrm>
            <a:off x="6324480" y="1066680"/>
            <a:ext cx="2362320" cy="2057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Oval 4"/>
          <p:cNvSpPr/>
          <p:nvPr/>
        </p:nvSpPr>
        <p:spPr>
          <a:xfrm>
            <a:off x="533520" y="3962520"/>
            <a:ext cx="3276360" cy="23619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-152280" y="-22860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3"/>
          <p:cNvSpPr/>
          <p:nvPr/>
        </p:nvSpPr>
        <p:spPr>
          <a:xfrm>
            <a:off x="5349600" y="4267080"/>
            <a:ext cx="32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other groups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ht consider jo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6705720" y="3276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1344240" y="1905120"/>
            <a:ext cx="77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igo in Education is my favorite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tes they suggest often fuel my scoop it 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gestions are sent to me through email. I click on links and deci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I want to bookmark this site, share it with a group, or scoop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  <p:cxnSp>
        <p:nvCxnSpPr>
          <p:cNvPr id="273" name="Straight Arrow Connector 5"/>
          <p:cNvCxnSpPr/>
          <p:nvPr/>
        </p:nvCxnSpPr>
        <p:spPr>
          <a:xfrm flipH="1">
            <a:off x="7009560" y="3427920"/>
            <a:ext cx="3506040" cy="213444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277" name="TextBox 4"/>
          <p:cNvSpPr/>
          <p:nvPr/>
        </p:nvSpPr>
        <p:spPr>
          <a:xfrm>
            <a:off x="4518000" y="3809880"/>
            <a:ext cx="38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use other than a school ema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xample is not corr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5"/>
          <p:cNvSpPr/>
          <p:nvPr/>
        </p:nvSpPr>
        <p:spPr>
          <a:xfrm>
            <a:off x="1828800" y="4495680"/>
            <a:ext cx="8001000" cy="7621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11582280" cy="7315200"/>
          </a:xfrm>
          <a:prstGeom prst="rect">
            <a:avLst/>
          </a:prstGeom>
          <a:ln w="0">
            <a:noFill/>
          </a:ln>
        </p:spPr>
      </p:pic>
      <p:sp>
        <p:nvSpPr>
          <p:cNvPr id="281" name="5-Point Star 3"/>
          <p:cNvSpPr/>
          <p:nvPr/>
        </p:nvSpPr>
        <p:spPr>
          <a:xfrm>
            <a:off x="7162920" y="762120"/>
            <a:ext cx="2286000" cy="2057400"/>
          </a:xfrm>
          <a:custGeom>
            <a:avLst/>
            <a:gdLst>
              <a:gd name="textAreaLeft" fmla="*/ 706320 w 2286000"/>
              <a:gd name="textAreaRight" fmla="*/ 1579680 w 2286000"/>
              <a:gd name="textAreaTop" fmla="*/ 785880 h 2057400"/>
              <a:gd name="textAreaBottom" fmla="*/ 1571760 h 2057400"/>
            </a:gdLst>
            <a:ahLst/>
            <a:rect l="textAreaLeft" t="textAreaTop" r="textAreaRight" b="textAreaBottom"/>
            <a:pathLst>
              <a:path w="2286000" h="2057400">
                <a:moveTo>
                  <a:pt x="2" y="785855"/>
                </a:moveTo>
                <a:lnTo>
                  <a:pt x="873179" y="785860"/>
                </a:lnTo>
                <a:lnTo>
                  <a:pt x="1143000" y="0"/>
                </a:lnTo>
                <a:lnTo>
                  <a:pt x="1412821" y="785860"/>
                </a:lnTo>
                <a:lnTo>
                  <a:pt x="2285998" y="785855"/>
                </a:lnTo>
                <a:lnTo>
                  <a:pt x="1579580" y="1271537"/>
                </a:lnTo>
                <a:lnTo>
                  <a:pt x="1849414" y="2057393"/>
                </a:lnTo>
                <a:lnTo>
                  <a:pt x="1143000" y="1571703"/>
                </a:lnTo>
                <a:lnTo>
                  <a:pt x="436586" y="2057393"/>
                </a:lnTo>
                <a:lnTo>
                  <a:pt x="706420" y="1271537"/>
                </a:lnTo>
                <a:close/>
              </a:path>
            </a:pathLst>
          </a:custGeom>
          <a:noFill/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1752480" y="2362320"/>
            <a:ext cx="701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may want the teacher console after you work with Diigo for awh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option for educator let’s you set up accounts for your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095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"/>
          <p:cNvPicPr/>
          <p:nvPr/>
        </p:nvPicPr>
        <p:blipFill>
          <a:blip r:embed="rId2"/>
          <a:stretch/>
        </p:blipFill>
        <p:spPr>
          <a:xfrm>
            <a:off x="2666880" y="1219320"/>
            <a:ext cx="3429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solidFill>
            <a:srgbClr val="9f2936"/>
          </a:solidFill>
          <a:ln w="42480">
            <a:solidFill>
              <a:srgbClr val="741b25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ducator? Get Started her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870120" y="530280"/>
            <a:ext cx="7449840" cy="4187880"/>
          </a:xfrm>
          <a:prstGeom prst="rect">
            <a:avLst/>
          </a:prstGeom>
          <a:ln w="0">
            <a:noFill/>
          </a:ln>
        </p:spPr>
      </p:pic>
      <p:cxnSp>
        <p:nvCxnSpPr>
          <p:cNvPr id="224" name="Straight Arrow Connector 5"/>
          <p:cNvCxnSpPr/>
          <p:nvPr/>
        </p:nvCxnSpPr>
        <p:spPr>
          <a:xfrm flipH="1">
            <a:off x="6247800" y="3047040"/>
            <a:ext cx="1524600" cy="106740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25" name="TextBox 4"/>
          <p:cNvSpPr/>
          <p:nvPr/>
        </p:nvSpPr>
        <p:spPr>
          <a:xfrm>
            <a:off x="4061520" y="685800"/>
            <a:ext cx="48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you school email acco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an educators account for mor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5181480"/>
            <a:ext cx="8183520" cy="852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Reference  Web 2.0Annotation &amp;BookmarkingTools:AQuick Gu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scribd.com/doc/111778965/Web-2-0-Annotation-and-Bookmarking-Tools-A-Quick-Gu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685800" y="533520"/>
            <a:ext cx="79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igo  allows the user to see any bookmarked sites on any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web. You sign into your account and no matter where you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bookmarks are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also you can highlight right on any  website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and your students can make comments on the websit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 you ideas. Those highlights and comments will stay on the site even after you close it. Just login to your account to see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share ideas with your own groups or gather idea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groups, Choose how and when to receive email aler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tool takes a little time, patience and practice but it is so worthwh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time to explore Dii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Use the Help Services</a:t>
            </a:r>
            <a:br>
              <a:rPr sz="3200"/>
            </a:b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Dream big: How can your class use Diigo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6896160"/>
          </a:xfrm>
          <a:prstGeom prst="rect">
            <a:avLst/>
          </a:prstGeom>
          <a:ln w="0">
            <a:noFill/>
          </a:ln>
        </p:spPr>
      </p:pic>
      <p:sp>
        <p:nvSpPr>
          <p:cNvPr id="292" name="Oval 4"/>
          <p:cNvSpPr/>
          <p:nvPr/>
        </p:nvSpPr>
        <p:spPr>
          <a:xfrm>
            <a:off x="0" y="-304920"/>
            <a:ext cx="1752480" cy="1447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229" name="5-Point Star 4"/>
          <p:cNvSpPr/>
          <p:nvPr/>
        </p:nvSpPr>
        <p:spPr>
          <a:xfrm>
            <a:off x="3276720" y="5257800"/>
            <a:ext cx="1981080" cy="914400"/>
          </a:xfrm>
          <a:custGeom>
            <a:avLst/>
            <a:gdLst>
              <a:gd name="textAreaLeft" fmla="*/ 612000 w 1981080"/>
              <a:gd name="textAreaRight" fmla="*/ 1369080 w 198108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1981200" h="914400">
                <a:moveTo>
                  <a:pt x="2" y="349269"/>
                </a:moveTo>
                <a:lnTo>
                  <a:pt x="756755" y="349271"/>
                </a:lnTo>
                <a:lnTo>
                  <a:pt x="990600" y="0"/>
                </a:lnTo>
                <a:lnTo>
                  <a:pt x="1224445" y="349271"/>
                </a:lnTo>
                <a:lnTo>
                  <a:pt x="1981198" y="349269"/>
                </a:lnTo>
                <a:lnTo>
                  <a:pt x="1368969" y="565127"/>
                </a:lnTo>
                <a:lnTo>
                  <a:pt x="1602825" y="914397"/>
                </a:lnTo>
                <a:lnTo>
                  <a:pt x="990600" y="698535"/>
                </a:lnTo>
                <a:lnTo>
                  <a:pt x="378375" y="914397"/>
                </a:lnTo>
                <a:lnTo>
                  <a:pt x="612231" y="565127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233" name="Oval 4"/>
          <p:cNvSpPr/>
          <p:nvPr/>
        </p:nvSpPr>
        <p:spPr>
          <a:xfrm>
            <a:off x="609480" y="3276720"/>
            <a:ext cx="5029200" cy="304560"/>
          </a:xfrm>
          <a:prstGeom prst="ellipse">
            <a:avLst/>
          </a:prstGeom>
          <a:noFill/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  <p:cxnSp>
        <p:nvCxnSpPr>
          <p:cNvPr id="237" name="Straight Arrow Connector 5"/>
          <p:cNvCxnSpPr/>
          <p:nvPr/>
        </p:nvCxnSpPr>
        <p:spPr>
          <a:xfrm flipH="1">
            <a:off x="9143640" y="4266720"/>
            <a:ext cx="2057760" cy="20577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ign in --</a:t>
            </a:r>
            <a:r>
              <a:rPr b="1" lang="en-US" sz="3600" spc="-1" strike="noStrike">
                <a:solidFill>
                  <a:srgbClr val="ff8d3e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o to tool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686800" cy="5029200"/>
          </a:xfrm>
          <a:prstGeom prst="rect">
            <a:avLst/>
          </a:prstGeom>
          <a:ln w="0">
            <a:noFill/>
          </a:ln>
        </p:spPr>
      </p:pic>
      <p:cxnSp>
        <p:nvCxnSpPr>
          <p:cNvPr id="240" name="Straight Arrow Connector 5"/>
          <p:cNvCxnSpPr/>
          <p:nvPr/>
        </p:nvCxnSpPr>
        <p:spPr>
          <a:xfrm flipV="1">
            <a:off x="6934320" y="761400"/>
            <a:ext cx="1219680" cy="243900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Run</a:t>
            </a:r>
            <a:r>
              <a:rPr b="0" lang="en-US" sz="3600" spc="-1" strike="noStrike">
                <a:solidFill>
                  <a:srgbClr val="79766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 run</a:t>
            </a:r>
            <a:r>
              <a:rPr b="0" lang="en-US" sz="3600" spc="-1" strike="noStrike">
                <a:solidFill>
                  <a:srgbClr val="79766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 yes</a:t>
            </a:r>
            <a:r>
              <a:rPr b="0" lang="en-US" sz="3600" spc="-1" strike="noStrike">
                <a:solidFill>
                  <a:srgbClr val="79766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accep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5624280"/>
            <a:ext cx="8183520" cy="6238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This is how you get the tool bar that allows you to highlight on the web. Foxfire is different. You may need help he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04920" y="-914400"/>
            <a:ext cx="853416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228600" y="220680"/>
            <a:ext cx="861048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How to add a bookmark.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304920" y="0"/>
            <a:ext cx="847080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3:35:29Z</dcterms:created>
  <dc:creator>Carole</dc:creator>
  <dc:description/>
  <dc:language>en-US</dc:language>
  <cp:lastModifiedBy>CaroleR</cp:lastModifiedBy>
  <dcterms:modified xsi:type="dcterms:W3CDTF">2013-03-14T15:45:02Z</dcterms:modified>
  <cp:revision>37</cp:revision>
  <dc:subject/>
  <dc:title>Diigo http://www.diigo.com</dc:title>
</cp:coreProperties>
</file>